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3341160" y="531360"/>
            <a:ext cx="3551400" cy="266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74352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797080" y="674352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5009-DC4D-43A9-BE21-089CC823D5B6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E4BD-5D22-4CDA-AC2F-6C36B1216851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1CE5-5E77-49EB-8961-97291FE4B5E4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6A4E-4CDA-47AF-86E7-4A49DFD8B441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83B2-0317-4170-8513-B5497D94E485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0695-B6B0-49B0-8078-B229260F1C91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9B73-18B8-42F3-9DCF-27B33BD15FE1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0D59-E0D9-4087-A0B4-438C4088075B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62E2-0A32-4C32-B0DA-48E6489B3AAB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60E8-77D4-4BCA-942E-B75B8ABE3A9C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8660-D8BE-4677-9D28-FB728F92DFBA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6E8A-6CA8-4958-8DBD-2CFE187FC466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3DA2-8194-4CD6-AD59-0646B3B1BAB3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6BA0-FAFA-4684-BB28-9BA62073FA78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3707-4FD6-4E1C-A346-993C91D3993A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3542-8614-478A-8DFE-92E72796128A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A5DE-8C4E-4118-8170-0E4B2200AC95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E8FA-EA01-439D-9F2B-4D8ECAB161EC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B6D9-51C6-4701-9A43-915454896B7E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4967-B8E5-4122-9052-66CBDA18E6A5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F819-D944-4C9E-8CA5-B116519EF51D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E146-DFCF-49C3-886B-EA3EDE321799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8222-6541-4054-9FE1-EC272E0864D4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2C5A-6009-4B97-8557-025ADD26392F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70CB-914A-49E7-A07D-6845F85DE96B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E4FF-60EE-4CC2-8D9F-CB3B82E93474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7EFE-FA8D-4AE5-AF8C-FF854DAB74AC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7C06-32C5-4975-B57D-FEE8E37A5965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D18A-F0C4-4B6A-AEDD-181D9D0D3B4D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6BB6-2D99-4411-838A-AF3BEAC0989C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866A-7310-4653-8195-8D4E9AA777FD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7001-7DDB-44DF-97E3-D554E6633FC1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46BA-F1E5-423F-A158-60BC91EFA379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3377-DEEF-4A3E-88DA-AAC83FF67397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B882-5C52-42A8-BA02-09176DC0E285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E2BC-A0CD-4CE9-997F-F219410E6018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1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B619-7220-4A11-B050-3B49BF3E717B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9751-2AFE-4E0A-85A3-F998A2828529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4788-F849-4870-9302-DE2AF709C2E9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2BE6-4B43-4914-B1EC-44CF2EB8EAD3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E2FE-F6BE-4CEE-83F4-A0B2BD7717FB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6852-4D56-46A1-9290-E2058A22264B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3415-3A3D-48D4-812F-9C1515FA3E98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F499-C22B-4007-A466-496E57DA6F2D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6FF8-3D93-4B9F-ABB7-AA8E6B201C94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388C-88D7-457A-9BDA-1EE078A00A4C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24BA-DF4B-405A-96E0-CD973D17ECE3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F76-8838-4723-A464-F00F163C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E0A-F2FC-40B4-96EE-51148171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FF0-D95E-4F86-99CC-A8D4EA27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415-2E08-4DC1-8BD4-E07D7049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7EDA-7F24-4AE1-892F-9856290D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D930-1B19-4101-BF54-FA7FBCBA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B5D2-7D5D-4964-A0AC-EB4B842A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0FE4-CC78-4918-B22F-59E62336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E43F-FD81-4D4B-B615-2AF27667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EDAD-FCC4-4B98-BD45-4F0F5494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D8C8-CA40-4504-A41F-9A15F23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812-5A9D-4A66-A204-183D7DD3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996E-B80E-4ADE-B06C-6143F020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4F13-50FB-4677-AA96-34508E9C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261E-8FB4-4EC6-A48B-45A1D727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F500-F47D-4FFC-8C84-CCC202CE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96EC-8BF3-4EE0-90D7-8F665B26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6AD68-A135-43D4-BAFF-6498DEDD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B25FF-C809-4919-9439-DF352204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6783D-D070-41B9-ABD0-C7A6463B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7C8F1-FEBD-43A3-835C-BB8CD2B6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E2ADA-D35D-48E9-B96B-8ADF7AC9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526-B9E0-4DEC-BFAE-10297773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C2267-892C-4633-9FDF-9D450778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26CAE-AC86-48F1-BC43-B2073ABD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D97F8-FEBC-454D-8688-045ED0A3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4E24C-2CFD-4112-BF32-EA7B650B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E17DD-D35E-490C-989A-79CD0593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66970-4EDD-4363-B8BE-81332352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17410-E9EB-43D9-A9D6-0DFCFC29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137BF-A32B-4FEA-AEAE-B2DD883C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C72B-6F3A-4BFA-9351-639106A9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72CBB-0AE5-4123-9BFA-25483B1D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9F1-B055-416E-9295-3B418407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9BBFC-6A07-4BE5-B68F-1849C0D3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704DE-D7F1-4EA2-B627-5EE9FC40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A1D7-C415-4241-8ECD-26CDC683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30C0-C953-407E-ABCF-74F1DD44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9E48-F1C7-4E8C-BA88-528A812B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9C04D-5A78-4F49-8172-BC1610F5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7BA46-DFB4-4305-A1E5-CC8F4A7C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E41C-F7E6-4FF0-8B4E-DE1FE551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0F0C3-00E0-423B-BA0D-022FD2E3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9EE-8C10-41FA-BAB5-470AD5EB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3EF-62E2-4727-BDE2-603791D2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6B7-9A73-430D-8A77-84AB08D8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66A-E76A-440C-BAB4-F55A022E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CE8-88E6-4278-A2FB-86D58A91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75C7-898A-447A-8083-9692C4058F8E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1EF4-2287-44D3-A2D1-4024B0421886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4BEA-A36B-4A3E-A5B7-9AD86C190995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2E04-FB2B-4838-A409-D53A66D0C425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기술 발전에도 논리가 있는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9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비판적 검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빠른 속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높은 효율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강력한 힘은 시대와 장소를 초월한 인간 공통의 요구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의 요구가 위의 세 가지밖에 없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안전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튼튼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오래 가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깨끗한 등의 요구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무엇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 요구들의 목록이 서로 배치되진 않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의 요구와 무관하게 기술이 도입될 수 있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단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좋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평가 항목들 불완전하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비일관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과 공간을 초월하여 인간이 단일한 요구를 가지고 있다는 잘못된 전제를 가지고 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들이 서로 동일한 목록의 요구를 하는 것처럼 보일 때조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 목록마다 부여하는 가중치가 다를 수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단선적으로 진보하고 있다는 사실 자체가 우리의 잘못된 기억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재 우리 주변의 기술 이외의 기술은 보이지 않다보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우리는 보이는 기술이 발명되기까지의 단선적인 흐름만 상상하게 되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나머지는 무시하게 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진화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바살라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단선적으로 진보하기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존 기술로부터의 다양한 </a:t>
            </a:r>
            <a:r>
              <a:rPr b="1" lang="ko-KR" sz="2800" spc="-1" strike="noStrike">
                <a:solidFill>
                  <a:srgbClr val="000000"/>
                </a:solidFill>
                <a:latin typeface="Georgia"/>
              </a:rPr>
              <a:t>변이 생산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 다양한 정치사회문화적 맥락에서의 </a:t>
            </a:r>
            <a:r>
              <a:rPr b="1" lang="ko-KR" sz="2800" spc="-1" strike="noStrike">
                <a:solidFill>
                  <a:srgbClr val="000000"/>
                </a:solidFill>
                <a:latin typeface="Georgia"/>
              </a:rPr>
              <a:t>선택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에 의해 </a:t>
            </a:r>
            <a:r>
              <a:rPr b="1" lang="ko-KR" sz="2800" spc="-1" strike="noStrike">
                <a:solidFill>
                  <a:srgbClr val="000000"/>
                </a:solidFill>
                <a:latin typeface="Georgia"/>
              </a:rPr>
              <a:t>분기적으로 진화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진화론의 주장들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필요 이상으로 무척 다양하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양한 기술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생존을 위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필요의 산물이라기보다 욕망과 상상력의 산물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필요 개념을 인정하더라도 그것은 시공간을 초월한 인류 공통의 필요가 아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상 유지의 생존을 위해서는 복잡한 기술이 필요하지 않으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더 나은 삶을 위한 필요는 사살상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욕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에 가까운 것으로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항목들은 시대와 장소에 따라 끊임없이 변화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183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진화론의 주장들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변화과정은 단선적인 진보가 아니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분기적인 진화를 통해 더 적절히 묘사되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진화의 경로를 보여주는 계통수를 그릴 수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은 천재적인 개인의 발명이라기보다 기존 기술들의 작은 변형 또는 조합의 누적적 결과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적 혁신은 필요뿐 아니라 놀이와 상상에 의해서 추동되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 경제적 요인뿐 아니라 문화적 요인도 중요하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liftlab.com/think/imgblog/pittrivers.jpeg"/>
          <p:cNvPicPr/>
          <p:nvPr/>
        </p:nvPicPr>
        <p:blipFill>
          <a:blip r:embed="rId2"/>
          <a:stretch/>
        </p:blipFill>
        <p:spPr>
          <a:xfrm>
            <a:off x="971640" y="1197000"/>
            <a:ext cx="7345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http://4.bp.blogspot.com/_x4_N2JYJj3c/S8Bb512O_-I/AAAAAAAAAi0/6SdB2Xv1S5s/s1600/clips_classification.jpg"/>
          <p:cNvPicPr/>
          <p:nvPr/>
        </p:nvPicPr>
        <p:blipFill>
          <a:blip r:embed="rId2"/>
          <a:stretch/>
        </p:blipFill>
        <p:spPr>
          <a:xfrm>
            <a:off x="1403280" y="981000"/>
            <a:ext cx="468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진화론의 주장들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 중 일부가 주어진 사회적 맥락 하에서 선택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에 대한 선택압에는 생존이나 경제적 요구 외에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문화적 태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적 유행의 추구 등의 요인도 포함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그것이 발명되고 사용되는 문화 속에서 평가되어야 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공간을 초월한 기술 진보의 평가 기준은 없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진보 개념을 유지하려면 그 의미를 바꾸어야 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2124000" y="1400040"/>
            <a:ext cx="4392720" cy="4583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2898360" y="609300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아스텍 인이 만든 바퀴달린 점토 인형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변화 과정을 지배하는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보편적인 규칙이나 메커니즘을 찾을 수 있을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진보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진화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의 사회적 구성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바퀴의 사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류는 더 나은 물품 수송을 위해 바퀴를 필요로 했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래서 발명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메소아메리카인들은 인형에 바퀴를 달 정도로 바퀴 구동의 원리를 알고 있었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실제 물품 수송용으로는 사용하지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들의 지역이 바퀴 달린 탈것에 부적합했기 때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7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근동지역과 북아프리카에서는 낙타가 바퀴를 대체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는 기술의 역행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낙타가 바퀴보다 훨씬 이점이 많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바퀴가 그 엄청난 중요성을 인정받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9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말 이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서구 유럽 사회의 맥락 덕분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보의 기준에 대한 재검토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농업 기술 진보의 평가 기준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단위면적당 수확량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에너지 투입 대 산출 비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계와 화학비료를 사용하는 미국의 농장의 단위면적당 수확량은 멕시코의 화전농경지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.8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미국 농장의 에너지 산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투입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3/1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 반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멕시코 농장의 에너지 산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투입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1/1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연 농업 기술은 진보했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보의 기준에 대한 재검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을 인구 증가 비율로 테스트할 수 있는 제안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 시기 인구 증가의 원인에는 기술 외의 다른 요인도 있을 수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를 무시한 채 인구 증가를 기술과 직결시키는 것은 정당화되기 어려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오늘날 인구 성장은 무조건적인 선이 아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높은 인구증가율을 기술 진보의 잣대로 사용하면 몇몇 후진국으로 알려진 나라가 가장 기술적으로 진보적이라는 반직관적인 결과가 나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한국은 가장 꼴지에 속할지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영상통화의 사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생물 진화의 유비는 적절한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생물의 진화는 비목적적인 과정이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진화는 인간의 목적의식적인 활동이 개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생물은 스스로 재생산하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공물은 인간에 의해 재생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생물의 변이는 부모로부터 무작위적으로 재생산되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공물의 변이는 인간이 목적의식적으로 변경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제작하여 생산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래서 새로운 인공물의 발명 과정에는 무작위적으로 보이는 상상력뿐 아니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경제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문화적 요구도 개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점은 다윈주의와 차별화되는 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화론이 주는 통찰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자식은 부모의 교잡 및 돌연변이의 결과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발명이라는 것이 목적하는 바가 있다고 뚝딱 나오는 것이 아니라는 점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새로운 인공물은 대부분 기존 인공물들의 작은 변형 및 조합의 누적 결과임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즉 기술 개발은 기존 기술의 조건에 묶여 있음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때로 새로운 기술은 특별한 요구나 목적의식 없이도 기존 기술로부터 보이게 된 가능성 그 자체만으로 발명되기도 함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이렇듯 진화론적 사고는 새로운 기술 등장의 제약조건이자 가능성을 제공하는 기존 기술들에 주목하게 해줌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화론이 주는 통찰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종분화는 다양한 환경에 따른 자연선택의 결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단선적으로 진보하는 것이 아니라 가지치기 방식으로 진화하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는 다양한 맥락에 놓인 기술이 받는 다양한 종류의 선택압 때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렇듯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진화론적 사고는 특정한 기술을 선택하거나 선택하지 않은 사회의 구체적 맥락에 주목하도록 해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진화론의 약점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너무 당연한 주장 아닌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을 추동하거나 선택하는 요인에 대해서는 그때그때 다르다는 주장 이상이 없지 않은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의 사회적 구성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경로는 사전에 정해져 있지 않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을 둘러싼 다양한 관련 사회집단의 인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에 따른 다양한 해결책 사이의 협상 타협에 의해 사회적으로 구성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표현상의 과격함을 덜 경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진화론과 큰 틀에서 같은 입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의 사회적 구성 메커니즘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공물을 둘러싼 다양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관련 사회집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 존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관련 사회집단은 인공물에 대해 서로 다른 의미 부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해석적 유연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 집단이 인식한 다양한 문제점에 대한 해결책으로서 다양한 인공물 고안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해결책으로 등장한 새로운 인공물에 대해서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여러 집단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상이한 문제점 인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?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문제를 해결하는 새로운 인공물의 등장과 논쟁의 종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://farm4.static.flickr.com/3349/3199102299_147b1d0fc7_z.jpg"/>
          <p:cNvPicPr/>
          <p:nvPr/>
        </p:nvPicPr>
        <p:blipFill>
          <a:blip r:embed="rId1"/>
          <a:stretch/>
        </p:blipFill>
        <p:spPr>
          <a:xfrm>
            <a:off x="826920" y="1413000"/>
            <a:ext cx="7467840" cy="46083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3711960" y="6165720"/>
            <a:ext cx="19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점점 더 빨라지는 기차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자전거의 사회적 구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249640"/>
            <a:ext cx="4906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왜 고무타이어가 달린 간접구동 방식의 낮은 바퀴 자전거가 오늘날의 보통 자전거가 되었을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2" descr="http://img.hani.co.kr/imgdb/resize/2006/0602/03284945_20060602.JPG"/>
          <p:cNvPicPr/>
          <p:nvPr/>
        </p:nvPicPr>
        <p:blipFill>
          <a:blip r:embed="rId1"/>
          <a:stretch/>
        </p:blipFill>
        <p:spPr>
          <a:xfrm>
            <a:off x="5508720" y="2349360"/>
            <a:ext cx="27622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http://www.playsoap.co.kr/board_data/notice/%ED%8C%8C%EC%9D%BCBicycle_evolution_numbers.svg___%EC%9C%84%ED%82%A4%EB%B0%B1%EA%B3%BC,_%EC%9A%B0%EB%A6%AC_%EB%AA%A8%EB%91%90%EC%9D%98_%EB%B0%B1%EA%B3%BC%EC%82%AC%EC%A0%84.jpg"/>
          <p:cNvPicPr/>
          <p:nvPr/>
        </p:nvPicPr>
        <p:blipFill>
          <a:blip r:embed="rId2"/>
          <a:stretch/>
        </p:blipFill>
        <p:spPr>
          <a:xfrm>
            <a:off x="468360" y="1268280"/>
            <a:ext cx="8190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" descr=""/>
          <p:cNvPicPr/>
          <p:nvPr/>
        </p:nvPicPr>
        <p:blipFill>
          <a:blip r:embed="rId2"/>
          <a:stretch/>
        </p:blipFill>
        <p:spPr>
          <a:xfrm>
            <a:off x="2133720" y="695160"/>
            <a:ext cx="43830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여성 사용자에게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dinary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전거는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불안전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동시에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치마가 걸리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계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안전성 높이는 방향의 설계 추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남성 사용자에게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dinary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전거는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남성 스포츠용 빠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계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욱 더 빠른 속도를 낼 수 있는 설계 추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4032360" cy="5921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3"/>
          <a:stretch/>
        </p:blipFill>
        <p:spPr>
          <a:xfrm>
            <a:off x="4716360" y="765000"/>
            <a:ext cx="3959280" cy="2311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4"/>
          <a:stretch/>
        </p:blipFill>
        <p:spPr>
          <a:xfrm>
            <a:off x="4716360" y="3213000"/>
            <a:ext cx="3940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65516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78184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논쟁의 종결 메커니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수사적 종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Facile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전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888)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상대적으로 낮은 앞바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40, 42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1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미터 가량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를 사용하는 동시에 비스듬한 포크를 사용하여 안장의 높이를 살짝 낮춤으로써 안전성을 높이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진동 문제를 해결하기 위해 안장에 스프링을 달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앞바퀴 감소에 따른 속도 감소를 해결하기 위해 앞바퀴에 기어를 장착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든 면에서 이점을 가지고 있으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거의 절대적으로 안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하다고 광고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수사적으로는 종결되었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실질적으로는 어정쩡한 타협에 그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논쟁의 종결 메커니즘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문제의 재정의에 의한 종결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원래는 진동문제의 해결책이었던 공기타이어가 자전거 경주에서 빠른 속도록 내주는 장치로 재정의됨으로써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즉 공기타이어를 장착한 안전 자전거가 경주에서 이기자 경쟁이 실질적으로 종결됨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해석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1 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이 자전거가 속도와 안전성 모든 면에서 양 집단을 만족시켰기 때문에 선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해석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2 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당시 더욱 결정적인 집단인 남성 사용자들의 기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즉 속도를 만족시켰기 때문에 선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해석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3 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어쨌든 속도에서 인정받지 못했다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공기타이어를 장착한 안전자전거는 오늘날의 보통 자전거로서의 지위를 획득하지 못했을 것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회적 구성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무슨 통찰을 주는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궤적이 미리 정해져 있지 않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회적 맥락에 의해 결정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는 주장은 기술진화론과 큰 틀에서 차이가 없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사회적 구성론은 다음의 두 가지를 더 부각시키고 있는 것으로 보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적 맥락이 여러 관련 사회집단으로 구분되어 작동한다는 점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즉 하나의 인공물에 대한 인식이 집단마다 다르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따라서 그들마다 다른 해결책이 추구된다는 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서로 다른 해결책 사이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쟁 및 수렴 역시 협상과 타협의 사회적 과정임을 강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_x68634584" descr="EMB00000e8481f8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회적 구성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무엇이 약점인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관련 사회집단이 인공물에 대해 문제점을 인식하면 해결책이 자동판매기에서 나오는 것처럼 묘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란 것이 원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의 목적을 위한 수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방법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라는 점을 상기해보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공물의 설계가 선택이 다양한 인간 집단의 해석 및 이해관계에 의해 결정된다는 것은 하등 놀라운 일이 아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든 사람이 바라는 기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속도와 안전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을 모두 만족하는 인공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기타이어를 장착한 안전 자전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 선택되는 것은 매우 바람직한 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이 다를 수 있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는 주장을 뒷받침하는 데 오히려 불리할 수도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꼭 한 가지 방식으로 수렴해야 하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두 종류의 자전거가 각기 다른 집단에서 갈등 없이 사용될 수도 있지 않은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하나의 인공물이 아닌 여러 인공물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높은 바퀴를 가진 자전거는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한 가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인공물이 아니었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그것은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남자들에게는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 ‘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마초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계이지만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여자들에게는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 ‘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불안전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계였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”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인공물의 실재성을 부정하는 듯한 주장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해석자에 따라 인공물이 달라진다고 주장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높은 바퀴를 자전거는 빠른 동시에 불안전한 기계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높은 바퀴의 자전거는 남자들에게도 불안전한 기계이며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여자들에게도 빠른 기계임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다만 남자 다수는 불안전성을 감수하면서 빠르기를 즐기려는 반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여성 다수는 빠르기를 줄이더라도 안전성을 높이고 싶어하는 것일 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즉 두 집단은 각 가치에 부여하는 가중치가 다른 것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사회적 구성론이 신선해 보였던 이유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에 대한 나이브한 진보 직관과 배치되기 때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우리가 오늘날 직관적으로 떠올릴 수 있는 기술의 선택 기준보다 훨씬 다양한 기준이 있었다는 점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리고 우리가 흔히 동질적이라고 보는 집단이 서로 다른 이해관계를 가지고 있었다는 점을 보여주기 때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회적 구성론의 교훈지점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인간의 요구나 욕망을 실현하는 방향으로 변화해왔다는 것은 그리 틀린 말은 아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그 요구나 욕망은 우리가 상상할 수 있는 것보다 훨씬 다양하고 복잡하며 자주 그들끼리 대립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또한 그 요구들을 조정하는 방법 역시 매우 다양하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래서 우리는 기술의 변화 과정을 자세히 들여다 볼 때마다 직관과 배치되는 복잡한 과정을 깨닫게 되면서 깜짝깜짝 놀라게 되는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과제물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아래 중 하나를 골라서 풀 것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인공물 하나를 골라 계통수를 그려볼 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인공물 하나를 골라 그 시기 그 인공물이 받은 선택압이 어떠한 것들이었을지 목록을 나열해볼 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인공물 하나를 골라 그 인공물에 대해 다른 의미를 부여하고 있는 둘 이상의 관련 사회집단을 추출해볼 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92000" y="1142640"/>
            <a:ext cx="6994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424456"/>
                </a:solidFill>
                <a:latin typeface="Trebuchet MS"/>
              </a:rPr>
              <a:t>기술의 진보가 우리에게 해준 일</a:t>
            </a:r>
            <a:r>
              <a:rPr b="0" lang="en-US" sz="3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3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8" name="Picture 2" descr="00730030.jpg"/>
          <p:cNvPicPr/>
          <p:nvPr/>
        </p:nvPicPr>
        <p:blipFill>
          <a:blip r:embed="rId1"/>
          <a:stretch/>
        </p:blipFill>
        <p:spPr>
          <a:xfrm>
            <a:off x="1258920" y="2492280"/>
            <a:ext cx="62658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_x68621976" descr="EMB00000e8481f9"/>
          <p:cNvPicPr/>
          <p:nvPr/>
        </p:nvPicPr>
        <p:blipFill>
          <a:blip r:embed="rId2"/>
          <a:stretch/>
        </p:blipFill>
        <p:spPr>
          <a:xfrm>
            <a:off x="1116000" y="1197000"/>
            <a:ext cx="63356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선적인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)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진보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어느 사회에서나 더 빠른 속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높은 효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강력한 힘을 내는 방향으로 발전해 왔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앞으로도 그럴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점점 좋은 방향으로 개선되어 간다는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람들의 직관을 반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빠른 비행기는 느린 비행기보다 좋은 기술이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효율적인 조명은 낭비적인 조명보다 좋은 기술이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‘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좋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’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 기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빠르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효율적이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강력한 기술은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에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좋은 기술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진보론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 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더 빠른 속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높은 효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강력한 힘과 같은 인간의 요구를 실현하는 방향으로 개선 및 발전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‘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좋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’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빠르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효율적이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강력한 기술은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의 요구와 무관하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자체로 좋은 기술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진보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효율성과 같은 기술 내적인 논리에 의해 발전하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진보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 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진보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진보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 관점에서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진보는 언제나 인간의 요구를 실현해줌으로써 인간을 행복하게 해주겠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진보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 관점에서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진보는 인간을 불행하게 만들 수도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효율성의 증대가 인간의 요구와 상관없이 이루어지기도 하면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것이 인간을 옥죌 수도 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5:18:36Z</dcterms:created>
  <dc:creator>zolaist</dc:creator>
  <dc:description/>
  <dc:language>en-US</dc:language>
  <cp:lastModifiedBy>zolaist</cp:lastModifiedBy>
  <dcterms:modified xsi:type="dcterms:W3CDTF">2010-09-18T04:58:23Z</dcterms:modified>
  <cp:revision>29</cp:revision>
  <dc:subject/>
  <dc:title>슬라이드 1</dc:title>
</cp:coreProperties>
</file>